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D0B2-67D9-4780-A10E-C5C5D6AE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C4ED-C143-4042-B5AE-E5C7049C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D96E-9358-426D-BD66-893EF57E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643D-EC71-48E7-B230-111230C24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A5B-0AAC-4E83-8D49-8D81DFDB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6654-0721-4A74-B547-C9D23BE9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CFF7-676E-4D9F-A821-B18F4A45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CAF4-9BC9-4581-921E-28FFF8CE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B222-6F06-4E2F-A6C7-C1EABCCC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7170-1613-42CF-A218-0BC9336F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3AFA-4FB8-4F46-86D0-A7637AE1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C0CC-01FA-4622-A059-D842AACD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500E-27AA-4572-AE03-97BB9F843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17220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698184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22:11:40Z</dcterms:created>
  <dc:creator>lucas.chase</dc:creator>
  <dc:description/>
  <dc:language>en-US</dc:language>
  <cp:lastModifiedBy>lucas.chase</cp:lastModifiedBy>
  <dcterms:modified xsi:type="dcterms:W3CDTF">2010-03-15T03:31:35Z</dcterms:modified>
  <cp:revision>23</cp:revision>
  <dc:subject/>
  <dc:title>Slide 1</dc:title>
</cp:coreProperties>
</file>